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019-4298-49FD-8609-859768AE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629-6395-4B13-944B-5D8F6279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6CF-74F3-44E8-AC07-BC668C8B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ADE-A036-4BA8-876E-40E5A0A1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65C-5C1C-4B1F-A5EA-46C8C24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FCC-E098-4551-8C9A-1674F21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918-9596-4C4A-82A9-E1FD9C7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58A-A4CC-48DF-8F0E-43F5D68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F41-6C81-46C8-A4A4-20EA8DB2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198-6BA7-4E7D-9CA7-98DC46B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B8A-3DDD-4100-8E85-CE3B775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503-4750-4CA6-ACB5-0FC3BF3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81C1-851B-4900-B881-E934C3A66A0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61160" y="5688000"/>
            <a:ext cx="45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 lub 18.11.1860 – 29.06.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aderewski"/>
          <p:cNvPicPr/>
          <p:nvPr/>
        </p:nvPicPr>
        <p:blipFill>
          <a:blip r:embed="rId1"/>
          <a:stretch/>
        </p:blipFill>
        <p:spPr>
          <a:xfrm>
            <a:off x="2700360" y="620640"/>
            <a:ext cx="3672000" cy="46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4800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57Z</dcterms:modified>
  <cp:revision>3</cp:revision>
  <dc:subject/>
  <dc:title>Slajd 1</dc:title>
</cp:coreProperties>
</file>